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gif" ContentType="image/gif"/>
  <Override PartName="/ppt/media/image1.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9628-30DA-48F4-8229-1AF0D5018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Tech is our adopted online technology textbook to support the Alabama Course of Study:  Technology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ource is managed by teachers and used by studen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Source is at the top of the p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syTech at the bott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the link looks on MCP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scroll down to find EasyTec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jok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each school should have a local school coordinator to assist teachers, add new teachers, and delete teachers who are no long on staf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ogging in each teacher will access their home page.  From here they can set up their classes, assign curriculum, enroll students, and pull reports on their progr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com has created a new beta version of EasyTech.  Teachers may opt to use this version.  Learning.com uploads the data from the original version to the beta version.  Therefore, your teachers would not have to start all ov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original ver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new version.  To access the Beta Version click the link from your home pa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locate their students to enroll into their classes from the school roster.  This roster will be updated each Friday afternoon.  I have been working with Learning.com and our software department on our upload program and procedures.  I anticipate our first upload to be completed this Friday afterno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ocate the links to each of these resources either from the Technology Support Teacher’s WIKI or from our MCPSS Instructional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WIKI click Distric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FAA11-1ED3-447E-AB96-93906FB3F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13B36-33E2-4488-AB87-8EDB8B0D3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533A6-88AA-4D10-8FD9-DE6AAF446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81B26-2C94-4316-A565-EA870A1C5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2B3CD-1912-490F-99E9-920FB89E2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BDA36-2B13-41FD-82E3-528CBB5EE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4CAB4-3ECD-443F-B248-69EAC68A7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556E0-8F53-402D-A04C-3DEDD57E3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154FE-A9C3-4031-B9CE-442DF2FF8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FEB0-06ED-4261-BDE8-4CF76C004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58E4B-377A-4E91-AC4F-86BB3EACB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62DF3-7C80-42E9-B275-B8716F099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E351-68C5-4D70-99CA-7E1800194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PP625.WAV" TargetMode="External"/><Relationship Id="rId2" Type="http://schemas.microsoft.com/office/2007/relationships/media" Target="file:///tmp/home/.config/libreoffice/4/user/gallery/~PP625.WAV" TargetMode="External"/><Relationship Id="rId3" Type="http://schemas.openxmlformats.org/officeDocument/2006/relationships/image" Target="../media/image1.png"/><Relationship Id="rId4" Type="http://schemas.openxmlformats.org/officeDocument/2006/relationships/hyperlink" Target="http://www.learning.com/" TargetMode="External"/><Relationship Id="rId5" Type="http://schemas.openxmlformats.org/officeDocument/2006/relationships/hyperlink" Target="http://www.learning.com/" TargetMode="External"/><Relationship Id="rId6" Type="http://schemas.openxmlformats.org/officeDocument/2006/relationships/hyperlink" Target="http://www.learning.com/" TargetMode="External"/><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file:///tmp/home/.config/libreoffice/4/user/gallery/~PP2636.WAV" TargetMode="External"/><Relationship Id="rId3" Type="http://schemas.microsoft.com/office/2007/relationships/media" Target="file:///tmp/home/.config/libreoffice/4/user/gallery/~PP2636.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file:///tmp/home/.config/libreoffice/4/user/gallery/~PP871.WAV" TargetMode="External"/><Relationship Id="rId3" Type="http://schemas.microsoft.com/office/2007/relationships/media" Target="file:///tmp/home/.config/libreoffice/4/user/gallery/~PP87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file:///tmp/home/.config/libreoffice/4/user/gallery/~PP3123.WAV" TargetMode="External"/><Relationship Id="rId3" Type="http://schemas.microsoft.com/office/2007/relationships/media" Target="file:///tmp/home/.config/libreoffice/4/user/gallery/~PP312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file:///tmp/home/.config/libreoffice/4/user/gallery/~PP400.WAV" TargetMode="External"/><Relationship Id="rId3" Type="http://schemas.microsoft.com/office/2007/relationships/media" Target="file:///tmp/home/.config/libreoffice/4/user/gallery/~PP400.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file:///tmp/home/.config/libreoffice/4/user/gallery/~PP4062.WAV" TargetMode="External"/><Relationship Id="rId3" Type="http://schemas.microsoft.com/office/2007/relationships/media" Target="file:///tmp/home/.config/libreoffice/4/user/gallery/~PP4062.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file:///tmp/home/.config/libreoffice/4/user/gallery/~PP2089.WAV" TargetMode="External"/><Relationship Id="rId3" Type="http://schemas.microsoft.com/office/2007/relationships/media" Target="file:///tmp/home/.config/libreoffice/4/user/gallery/~PP2089.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file:///tmp/home/.config/libreoffice/4/user/gallery/~PP3493.WAV" TargetMode="External"/><Relationship Id="rId3" Type="http://schemas.microsoft.com/office/2007/relationships/media" Target="file:///tmp/home/.config/libreoffice/4/user/gallery/~PP349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file:///tmp/home/.config/libreoffice/4/user/gallery/~PP3989.WAV" TargetMode="External"/><Relationship Id="rId3" Type="http://schemas.microsoft.com/office/2007/relationships/media" Target="file:///tmp/home/.config/libreoffice/4/user/gallery/~PP3989.WAV"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file:///tmp/home/.config/libreoffice/4/user/gallery/~PP1531.WAV" TargetMode="External"/><Relationship Id="rId3" Type="http://schemas.microsoft.com/office/2007/relationships/media" Target="file:///tmp/home/.config/libreoffice/4/user/gallery/~PP153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a:hlinkClick r:id="" action="ppaction://media"/>
          </p:cNvPr>
          <p:cNvPicPr/>
          <p:nvPr>
            <a:audioFile r:link="rId1"/>
            <p:extLst>
              <p:ext uri="{DAA4B4D4-6D71-4841-9C94-3DE7FCFB9230}">
                <p14:media r:link="rId2"/>
              </p:ext>
            </p:extLst>
          </p:nvPr>
        </p:nvPicPr>
        <p:blipFill>
          <a:blip r:embed="rId3"/>
          <a:stretch>
            <a:fillRect/>
          </a:stretch>
        </p:blipFill>
        <p:spPr>
          <a:xfrm>
            <a:off x="8696160" y="6410160"/>
            <a:ext cx="304920" cy="3049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Arial"/>
              </a:rPr>
              <a:t>EasyTech </a:t>
            </a:r>
            <a:br>
              <a:rPr sz="4400"/>
            </a:br>
            <a:r>
              <a:rPr b="1" i="1" lang="en-US" sz="3600" spc="-1" strike="noStrike">
                <a:solidFill>
                  <a:srgbClr val="990000"/>
                </a:solidFill>
                <a:latin typeface="Arial"/>
              </a:rPr>
              <a:t>By Learning.com</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a:t>
            </a:r>
            <a:r>
              <a:rPr b="0" lang="en-US" sz="3200" spc="-1" strike="noStrike" u="sng">
                <a:solidFill>
                  <a:srgbClr val="009999"/>
                </a:solidFill>
                <a:uFillTx/>
                <a:latin typeface="Arial"/>
                <a:hlinkClick r:id="rId5"/>
              </a:rPr>
              <a:t>www.learning.com</a:t>
            </a:r>
            <a:r>
              <a:rPr b="0" lang="en-US" sz="3200" spc="-1" strike="noStrike" u="sng">
                <a:solidFill>
                  <a:srgbClr val="009999"/>
                </a:solidFill>
                <a:uFillTx/>
                <a:latin typeface="Arial"/>
                <a:hlinkClick r:id="rId6"/>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8"/>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pic>
        <p:nvPicPr>
          <p:cNvPr id="70" name="" descr=""/>
          <p:cNvPicPr/>
          <p:nvPr/>
        </p:nvPicPr>
        <p:blipFill>
          <a:blip r:embed="rId2"/>
          <a:stretch/>
        </p:blipFill>
        <p:spPr>
          <a:xfrm>
            <a:off x="8696160" y="6410160"/>
            <a:ext cx="30492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8696160" y="641016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8696160" y="641016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00200" y="4876920"/>
            <a:ext cx="6324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76" name=""/>
          <p:cNvSpPr/>
          <p:nvPr/>
        </p:nvSpPr>
        <p:spPr>
          <a:xfrm>
            <a:off x="4495680" y="1219320"/>
            <a:ext cx="39625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Forth and May Technology Work for You</a:t>
            </a:r>
            <a:endParaRPr b="0" lang="en-US" sz="3200" spc="-1" strike="noStrike">
              <a:solidFill>
                <a:srgbClr val="000000"/>
              </a:solidFill>
              <a:latin typeface="Arial"/>
            </a:endParaRPr>
          </a:p>
        </p:txBody>
      </p:sp>
      <p:pic>
        <p:nvPicPr>
          <p:cNvPr id="77" name="" descr=""/>
          <p:cNvPicPr/>
          <p:nvPr/>
        </p:nvPicPr>
        <p:blipFill>
          <a:blip r:embed="rId1"/>
          <a:stretch/>
        </p:blipFill>
        <p:spPr>
          <a:xfrm>
            <a:off x="1066680" y="1066680"/>
            <a:ext cx="2895840" cy="2340000"/>
          </a:xfrm>
          <a:prstGeom prst="rect">
            <a:avLst/>
          </a:prstGeom>
          <a:ln w="0">
            <a:noFill/>
          </a:ln>
        </p:spPr>
      </p:pic>
      <p:pic>
        <p:nvPicPr>
          <p:cNvPr id="78" name="" descr=""/>
          <p:cNvPicPr/>
          <p:nvPr/>
        </p:nvPicPr>
        <p:blipFill>
          <a:blip r:embed="rId2"/>
          <a:stretch/>
        </p:blipFill>
        <p:spPr>
          <a:xfrm>
            <a:off x="8696160" y="6410160"/>
            <a:ext cx="304920" cy="30492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2"/>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pic>
        <p:nvPicPr>
          <p:cNvPr id="5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4"/>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067680" cy="6800760"/>
          </a:xfrm>
          <a:prstGeom prst="rect">
            <a:avLst/>
          </a:prstGeom>
          <a:ln w="0">
            <a:noFill/>
          </a:ln>
        </p:spPr>
      </p:pic>
      <p:pic>
        <p:nvPicPr>
          <p:cNvPr id="5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6"/>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8"/>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pic>
        <p:nvPicPr>
          <p:cNvPr id="60"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0"/>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228600"/>
            <a:ext cx="9753840" cy="7315200"/>
          </a:xfrm>
          <a:prstGeom prst="rect">
            <a:avLst/>
          </a:prstGeom>
          <a:ln w="0">
            <a:noFill/>
          </a:ln>
        </p:spPr>
      </p:pic>
      <p:pic>
        <p:nvPicPr>
          <p:cNvPr id="6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2"/>
                </p:tgtEl>
              </p:cMediaNode>
            </p:audi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pic>
        <p:nvPicPr>
          <p:cNvPr id="6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4"/>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pic>
        <p:nvPicPr>
          <p:cNvPr id="6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6"/>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5:11:46Z</dcterms:created>
  <dc:creator>MCPSS</dc:creator>
  <dc:description/>
  <dc:language>en-US</dc:language>
  <cp:lastModifiedBy>Aheitman</cp:lastModifiedBy>
  <dcterms:modified xsi:type="dcterms:W3CDTF">2007-09-12T14:07:00Z</dcterms:modified>
  <cp:revision>22</cp:revision>
  <dc:subject/>
  <dc:title>Slide 1</dc:title>
</cp:coreProperties>
</file>