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36C3-53B9-4F9A-A970-BB7718742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Source is an online staff development tool offering training for various computer application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oft Office Suite, Technology Integration into the Curriculum, and Use of the Internet to name a f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employee has access to these training tutorials.  Every school should have a local school administrator to add and delete courses for their facul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logging in you will view your home page.  This is were you access your cour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s can be added school to a school’s entire staff as a group or to an individ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ourse is broken into mini tutori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utorial can contain as little as 7 slides and up to 40.  Therefore, a session can take as little as 5 mins. to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s have access to this resource wherever there is Internet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lso online help and a users gu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r faculty has not had training on this wonderful product, then contact your school’s Technology Resource Teacher to plan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1641-EE17-4B73-BD2E-404525F1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657-C759-4A78-A0B7-F30085B5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7DE3-10DD-4BF6-B35D-96C0C810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68DE-3207-435D-8865-B7F0F584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223-4689-418B-80F6-767FCC6C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4A1-A925-4DDD-B62B-D1499785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99BA-5230-41BD-A50B-03928D8B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634-85AB-4B0B-BC8D-507C378F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6C2-3DDD-446A-BA44-9EFD041C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5CD-7FBD-4D51-A3A5-43327ADE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984-479C-48F1-A235-28070A3D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7E5B-0343-4597-ABE0-35340371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A10E-BBA4-4FB0-A182-02D4BE2CB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cpss.howtomaster.com/" TargetMode="External"/><Relationship Id="rId2" Type="http://schemas.openxmlformats.org/officeDocument/2006/relationships/audio" Target="file:///tmp/home/.config/libreoffice/4/user/gallery/~PP3282.WAV" TargetMode="External"/><Relationship Id="rId3" Type="http://schemas.microsoft.com/office/2007/relationships/media" Target="file:///tmp/home/.config/libreoffice/4/user/gallery/~PP328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~PP2840.WAV" TargetMode="External"/><Relationship Id="rId3" Type="http://schemas.microsoft.com/office/2007/relationships/media" Target="file:///tmp/home/.config/libreoffice/4/user/gallery/~PP284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~PP2349.WAV" TargetMode="External"/><Relationship Id="rId3" Type="http://schemas.microsoft.com/office/2007/relationships/media" Target="file:///tmp/home/.config/libreoffice/4/user/gallery/~PP234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file:///tmp/home/.config/libreoffice/4/user/gallery/~PP1733.WAV" TargetMode="External"/><Relationship Id="rId3" Type="http://schemas.microsoft.com/office/2007/relationships/media" Target="file:///tmp/home/.config/libreoffice/4/user/gallery/~PP173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~PP1389.WAV" TargetMode="External"/><Relationship Id="rId3" Type="http://schemas.microsoft.com/office/2007/relationships/media" Target="file:///tmp/home/.config/libreoffice/4/user/gallery/~PP138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~PP1318.WAV" TargetMode="External"/><Relationship Id="rId3" Type="http://schemas.microsoft.com/office/2007/relationships/media" Target="file:///tmp/home/.config/libreoffice/4/user/gallery/~PP131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129528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InfoSourc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How to Mas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495680"/>
            <a:ext cx="815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cpss.howtomaster.com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77320" y="533520"/>
            <a:ext cx="106668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763120" cy="657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4:04:14Z</dcterms:created>
  <dc:creator>Aheitman</dc:creator>
  <dc:description/>
  <dc:language>en-US</dc:language>
  <cp:lastModifiedBy>Aheitman</cp:lastModifiedBy>
  <dcterms:modified xsi:type="dcterms:W3CDTF">2007-09-12T14:05:02Z</dcterms:modified>
  <cp:revision>1</cp:revision>
  <dc:subject/>
  <dc:title>Slide 1</dc:title>
</cp:coreProperties>
</file>