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E544-7566-49B0-A014-716A461A2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Anet was rolled out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teachers and administrators access to STI software from h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important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that, for all practical purposes, broadband (dsl, cable) is required. Very fast dialup connections may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c client (y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6 or 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 brea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ome sleep, for cryin’ out l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ed User Agreement Statement on file in off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ogging into your school’s server through a VPN (virtual private network) and your computer is acting as a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M is running on the server, not your compu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ed as a series of rapid screen sho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on your comput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n’t required to use RTAnet, but it sure is handy if you want t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posted on Instructional technology’s Document Upload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way to get to RTAnet – do remember to allow pop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select the correct hyper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ink to workorder, in case you have probl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how you can never be sure exactly when the cable guy is going to arrive? You can be absolutely sure about when the technician will arrive at your home for RTAnet service (never). Support is limited to problems with login names, user rights,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you pi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ce is key at several points, especially toward the end. There is a point at which the message in the bottom left corner says, “done”. It is a lie. Wait a little longer (up to a minute) for the Classroom Module icon to appear in a black window. If you do get antsy and click on the screen, the CRM window may appear behind the IDS Links windo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CRM icon and log in with CRM userid and passw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windows in reverse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og Out” on IDS Link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the browser’s c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all iterations of 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6B18B-7BAB-4D97-B262-6D453F16F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21184-BC41-425E-AD83-F10440249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0DADB-8042-4541-B6CC-A4EC1E315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3AFD9-7C07-4F1C-A925-953A0D93E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D4196-2BC3-4985-9F34-CF474E499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D8433-1ECB-417C-AD56-A6148CCCC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E6480-504B-43C0-AD31-CF67FDB52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1A826-3BCD-4A53-9B23-39D05BB45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DCCA7-CE39-4C66-9616-0FE6572A4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A83C-AF43-47AB-A8CE-BDC1A89A9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130AE-E411-4124-B1E5-32808D3B6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B5056-3B52-4E50-A726-92849D2F2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17CC-308B-40B8-B079-6CEF0943C8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cpss.com/"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strai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minutes idle = logged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vailable 12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Agreement Stat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4343400" y="39625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sibiliti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to record homework grades from practically anywhere on or near the face of the ear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c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w-to’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lwt3</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illiard and Haskew)</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rufd</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one else)</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2755800"/>
            <a:ext cx="8381880" cy="4102200"/>
          </a:xfrm>
          <a:prstGeom prst="rect">
            <a:avLst/>
          </a:prstGeom>
          <a:ln w="9360">
            <a:solidFill>
              <a:srgbClr val="000000"/>
            </a:solidFill>
            <a:miter/>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off pop-up blocke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mcpss.com</a:t>
            </a:r>
            <a:r>
              <a:rPr b="0" lang="en-US" sz="3200" spc="-1" strike="noStrike">
                <a:solidFill>
                  <a:srgbClr val="000000"/>
                </a:solidFill>
                <a:latin typeface="Arial"/>
              </a:rPr>
              <a:t>&gt;Information Technology</a:t>
            </a:r>
            <a:endParaRPr b="0" lang="en-US" sz="3200" spc="-1" strike="noStrike">
              <a:solidFill>
                <a:srgbClr val="000000"/>
              </a:solidFill>
              <a:latin typeface="Arial"/>
            </a:endParaRPr>
          </a:p>
        </p:txBody>
      </p:sp>
      <p:sp>
        <p:nvSpPr>
          <p:cNvPr id="60" name=""/>
          <p:cNvSpPr/>
          <p:nvPr/>
        </p:nvSpPr>
        <p:spPr>
          <a:xfrm>
            <a:off x="5257800" y="3733920"/>
            <a:ext cx="160020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2819520"/>
            <a:ext cx="9144000" cy="2293920"/>
          </a:xfrm>
          <a:prstGeom prst="rect">
            <a:avLst/>
          </a:prstGeom>
          <a:ln w="0">
            <a:noFill/>
          </a:ln>
        </p:spPr>
      </p:pic>
      <p:sp>
        <p:nvSpPr>
          <p:cNvPr id="64" name=""/>
          <p:cNvSpPr/>
          <p:nvPr/>
        </p:nvSpPr>
        <p:spPr>
          <a:xfrm>
            <a:off x="0" y="3657600"/>
            <a:ext cx="65530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to every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all downloads and instal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SS username and password (tw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ce! (especially between steps 11 and 12)</a:t>
            </a:r>
            <a:endParaRPr b="0" lang="en-US" sz="3200" spc="-1" strike="noStrike">
              <a:solidFill>
                <a:srgbClr val="000000"/>
              </a:solidFill>
              <a:latin typeface="Arial"/>
            </a:endParaRPr>
          </a:p>
        </p:txBody>
      </p:sp>
      <p:pic>
        <p:nvPicPr>
          <p:cNvPr id="67" name="" descr=""/>
          <p:cNvPicPr/>
          <p:nvPr/>
        </p:nvPicPr>
        <p:blipFill>
          <a:blip r:embed="rId1"/>
          <a:stretch/>
        </p:blipFill>
        <p:spPr>
          <a:xfrm>
            <a:off x="0" y="6238800"/>
            <a:ext cx="971640" cy="619200"/>
          </a:xfrm>
          <a:prstGeom prst="rect">
            <a:avLst/>
          </a:prstGeom>
          <a:ln w="0">
            <a:noFill/>
          </a:ln>
        </p:spPr>
      </p:pic>
      <p:sp>
        <p:nvSpPr>
          <p:cNvPr id="68" name=""/>
          <p:cNvSpPr/>
          <p:nvPr/>
        </p:nvSpPr>
        <p:spPr>
          <a:xfrm rot="2706600">
            <a:off x="685080" y="5105160"/>
            <a:ext cx="609840" cy="1219320"/>
          </a:xfrm>
          <a:prstGeom prst="downArrow">
            <a:avLst>
              <a:gd name="adj1" fmla="val 50000"/>
              <a:gd name="adj2" fmla="val 49985"/>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9" name=""/>
          <p:cNvSpPr/>
          <p:nvPr/>
        </p:nvSpPr>
        <p:spPr>
          <a:xfrm>
            <a:off x="990720" y="5562720"/>
            <a:ext cx="2743200" cy="533160"/>
          </a:xfrm>
          <a:prstGeom prst="cloudCallout">
            <a:avLst>
              <a:gd name="adj1" fmla="val -24305"/>
              <a:gd name="adj2" fmla="val 98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elieve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 repeatCount="1000">
                                  <p:stCondLst>
                                    <p:cond delay="0"/>
                                  </p:stCondLst>
                                  <p:childTnLst>
                                    <p:set>
                                      <p:cBhvr>
                                        <p:cTn id="7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438280" y="1647720"/>
            <a:ext cx="4191120" cy="34988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the door as you leav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IE’s Browsing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on public mach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gt;&gt;Internet Options&gt;&gt;General ta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5T18:53:09Z</dcterms:created>
  <dc:creator>David G. Morrow</dc:creator>
  <dc:description/>
  <dc:language>en-US</dc:language>
  <cp:lastModifiedBy>David G. Morrow</cp:lastModifiedBy>
  <dcterms:modified xsi:type="dcterms:W3CDTF">2007-08-21T21:11:05Z</dcterms:modified>
  <cp:revision>22</cp:revision>
  <dc:subject/>
  <dc:title>RTAnet</dc:title>
</cp:coreProperties>
</file>